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3EEC7-545F-4261-A0E8-B85B2FE439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2F5CF-A2BC-42AD-8119-C85CC4C0EA16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2244-DC28-4092-8EE7-144BE0B2D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43BA-BC5C-4556-8E7C-6F2001608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3380-ED20-4565-8911-4F6407242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64A5-1683-4B8E-AA4A-3E233BAB4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4BEB-9B75-4563-BE37-54FE78BC8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1823-7B08-40C2-8407-9376F890C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EA9D-620F-4E8A-B035-1135FD005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4642-AFED-499B-AD54-56DA05F75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6569-9FA9-4BEC-B8A9-66C2B1CD5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018C-2A2A-497E-B576-FCDE1C3ED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BA92-A2BF-4DCC-87D9-006314E71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0F69-7C7A-439E-89A7-B127AB1D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4430D-CDCD-4AA9-BD48-6CEC9772EA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nzcurriculum.tki.org.nz/" TargetMode="External"/><Relationship Id="rId3" Type="http://schemas.openxmlformats.org/officeDocument/2006/relationships/hyperlink" Target="http://nzcurriculum.tki.org.nz/" TargetMode="External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35280" y="1989000"/>
            <a:ext cx="640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 Narrow"/>
              </a:rPr>
              <a:t>Sector Leaders D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484360" y="3573360"/>
            <a:ext cx="563904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26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 Narrow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 February 2008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8920" y="-360"/>
            <a:ext cx="871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5400" spc="-1" strike="noStrike">
                <a:solidFill>
                  <a:srgbClr val="000000"/>
                </a:solidFill>
                <a:latin typeface="Monotype Corsiva"/>
              </a:rPr>
              <a:t>Te Āhua o te Ākonga ka Put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79640" y="5589720"/>
            <a:ext cx="6985080" cy="126828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Lucida Sans Unicode"/>
              </a:rPr>
              <a:t>TE KAUPAPA MARAUTANGA O AOTEAR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5637240"/>
            <a:ext cx="1944720" cy="1220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50920" y="5157720"/>
            <a:ext cx="2448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50920" y="836640"/>
            <a:ext cx="3301920" cy="4680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780000" y="1268280"/>
            <a:ext cx="511164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Lucida Sans Unicode"/>
              </a:rPr>
              <a:t>Preparing our Children for 21</a:t>
            </a:r>
            <a:r>
              <a:rPr b="0" lang="en-NZ" sz="2400" spc="-1" strike="noStrike" baseline="30000">
                <a:solidFill>
                  <a:srgbClr val="000000"/>
                </a:solidFill>
                <a:latin typeface="Lucida Sans Unicode"/>
              </a:rPr>
              <a:t>st</a:t>
            </a:r>
            <a:r>
              <a:rPr b="0" lang="en-NZ" sz="2400" spc="-1" strike="noStrike">
                <a:solidFill>
                  <a:srgbClr val="000000"/>
                </a:solidFill>
                <a:latin typeface="Lucida Sans Unicode"/>
              </a:rPr>
              <a:t> Century Learning . .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Lucida Sans Unicode"/>
              </a:rPr>
              <a:t>Life-long Learner 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Lucida Sans Unicode"/>
              </a:rPr>
              <a:t>Proud to be Māori while participating in National and Global Communities 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Lucida Sans Unicode"/>
              </a:rPr>
              <a:t>Aspire to the Educational Achievements of your ancestors 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8920" y="-360"/>
            <a:ext cx="871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5400" spc="-1" strike="noStrike">
                <a:solidFill>
                  <a:srgbClr val="000000"/>
                </a:solidFill>
                <a:latin typeface="Monotype Corsiva"/>
              </a:rPr>
              <a:t>The Graduate Profi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79640" y="5589720"/>
            <a:ext cx="6985080" cy="126828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Lucida Sans Unicode"/>
              </a:rPr>
              <a:t>TE KAUPAPA MARAUTANGA O AOTEAR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5637240"/>
            <a:ext cx="1944720" cy="12207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50920" y="5157720"/>
            <a:ext cx="2448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50920" y="836640"/>
            <a:ext cx="3301920" cy="4680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276720" y="836640"/>
            <a:ext cx="5543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Lucida Sans Unicode"/>
              </a:rPr>
              <a:t>As a result of the school working with its community, whänau, hapü and iwi, graduates of Mäori medium programmes wil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Lucida Sans Unicode"/>
              </a:rPr>
              <a:t>Have high academic, cultural and social su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Lucida Sans Unicode"/>
              </a:rPr>
              <a:t>Have a wide range of life skills/ career choi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Lucida Sans Unicode"/>
              </a:rPr>
              <a:t>Contribute to well-being of wh</a:t>
            </a:r>
            <a:r>
              <a:rPr b="0" lang="en-NZ" sz="28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ä</a:t>
            </a:r>
            <a:r>
              <a:rPr b="0" lang="en-NZ" sz="2800" spc="-1" strike="noStrike">
                <a:solidFill>
                  <a:srgbClr val="000000"/>
                </a:solidFill>
                <a:latin typeface="Lucida Sans Unicode"/>
              </a:rPr>
              <a:t>nau, hap</a:t>
            </a:r>
            <a:r>
              <a:rPr b="0" lang="en-NZ" sz="28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ü, häpori, iwi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92360" y="3645000"/>
            <a:ext cx="640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Narrow"/>
              </a:rPr>
              <a:t>What are the implications of partnership curriculum documents for school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484360" y="3573360"/>
            <a:ext cx="563904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050920" y="3284640"/>
            <a:ext cx="640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Narrow"/>
              </a:rPr>
              <a:t>How could we share resources as we develop them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484360" y="3573360"/>
            <a:ext cx="563904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735280" y="1850760"/>
            <a:ext cx="64087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" name=""/>
          <p:cNvSpPr/>
          <p:nvPr/>
        </p:nvSpPr>
        <p:spPr>
          <a:xfrm>
            <a:off x="2484360" y="3573360"/>
            <a:ext cx="563904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340000" y="1484280"/>
            <a:ext cx="640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 Narrow"/>
              </a:rPr>
              <a:t>Outline of the day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84360" y="3573360"/>
            <a:ext cx="563904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42920" y="3213000"/>
            <a:ext cx="79218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 progress to date and issues that have ari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rther develop understanding of the sector leader r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on NZC resources and Te Marautanga o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tearo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activities to use with cluster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340000" y="836640"/>
            <a:ext cx="640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Narrow"/>
              </a:rPr>
              <a:t>What will support look like?</a:t>
            </a:r>
            <a:r>
              <a:rPr b="0" lang="en-US" sz="7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484360" y="2565360"/>
            <a:ext cx="563904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18840" y="2421000"/>
            <a:ext cx="4923360" cy="70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tor leaders’ day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55640" y="3716280"/>
            <a:ext cx="1728720" cy="825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onal Clu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00360" y="3716280"/>
            <a:ext cx="1728720" cy="825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onal Clu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16360" y="3716280"/>
            <a:ext cx="1728720" cy="825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onal Clu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04000" y="3716280"/>
            <a:ext cx="1728720" cy="825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onal Clu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5229360"/>
            <a:ext cx="1079280" cy="520200"/>
          </a:xfrm>
          <a:prstGeom prst="rect">
            <a:avLst/>
          </a:prstGeom>
          <a:solidFill>
            <a:srgbClr val="0099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dividual Sup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76360" y="5229360"/>
            <a:ext cx="1079640" cy="520200"/>
          </a:xfrm>
          <a:prstGeom prst="rect">
            <a:avLst/>
          </a:prstGeom>
          <a:solidFill>
            <a:srgbClr val="0099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dividual Sup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76720" y="5229360"/>
            <a:ext cx="1079640" cy="520200"/>
          </a:xfrm>
          <a:prstGeom prst="rect">
            <a:avLst/>
          </a:prstGeom>
          <a:solidFill>
            <a:srgbClr val="0099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dividual Sup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627280" y="5229360"/>
            <a:ext cx="1079640" cy="520200"/>
          </a:xfrm>
          <a:prstGeom prst="rect">
            <a:avLst/>
          </a:prstGeom>
          <a:solidFill>
            <a:srgbClr val="0099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dividual Sup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51280" y="5229360"/>
            <a:ext cx="1079640" cy="520200"/>
          </a:xfrm>
          <a:prstGeom prst="rect">
            <a:avLst/>
          </a:prstGeom>
          <a:solidFill>
            <a:srgbClr val="0099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dividual Sup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300720" y="5229360"/>
            <a:ext cx="1079640" cy="520200"/>
          </a:xfrm>
          <a:prstGeom prst="rect">
            <a:avLst/>
          </a:prstGeom>
          <a:solidFill>
            <a:srgbClr val="0099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dividual Sup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596360" y="5229360"/>
            <a:ext cx="1079280" cy="520200"/>
          </a:xfrm>
          <a:prstGeom prst="rect">
            <a:avLst/>
          </a:prstGeom>
          <a:solidFill>
            <a:srgbClr val="0099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dividual Sup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2050560" y="3141720"/>
            <a:ext cx="5050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3634920" y="3141720"/>
            <a:ext cx="14292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08720" y="3141720"/>
            <a:ext cx="14292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020000" y="3141720"/>
            <a:ext cx="576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0920" y="3213000"/>
            <a:ext cx="4334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900000" y="4653000"/>
            <a:ext cx="14472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6364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340000" y="465300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84360" y="1989000"/>
            <a:ext cx="640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 Narrow"/>
              </a:rPr>
              <a:t>Resource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84360" y="3573360"/>
            <a:ext cx="563904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87280" y="3500280"/>
            <a:ext cx="7345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National Curriculum to School’s Curricul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 Marautanga o Aotearoa (Draf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he New Zealand Curriculum -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NZCurriculumOn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000" y="333360"/>
            <a:ext cx="8893080" cy="6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Two parallel document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23640" y="1412640"/>
            <a:ext cx="835164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set the</a:t>
            </a:r>
            <a:r>
              <a:rPr b="0" lang="en-NZ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direction for student learning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&amp; provide 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guidance for schools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as they design &amp; review their curriculu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3600" spc="-1" strike="noStrike">
                <a:solidFill>
                  <a:srgbClr val="000000"/>
                </a:solidFill>
                <a:latin typeface="Arial"/>
              </a:rPr>
              <a:t>Te Marautanga o Aotearoa   </a:t>
            </a:r>
            <a:r>
              <a:rPr b="1" i="1" lang="en-NZ" sz="2400" spc="-1" strike="noStrike">
                <a:solidFill>
                  <a:srgbClr val="000000"/>
                </a:solidFill>
                <a:latin typeface="Arial"/>
              </a:rPr>
              <a:t>(Draf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NZ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NZ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NZ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3600" spc="-1" strike="noStrike">
                <a:solidFill>
                  <a:srgbClr val="000000"/>
                </a:solidFill>
                <a:latin typeface="Arial"/>
              </a:rPr>
              <a:t>The New Zealand Curriculum</a:t>
            </a:r>
            <a:r>
              <a:rPr b="0" i="1" lang="en-NZ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400" spc="-1" strike="noStrike">
                <a:solidFill>
                  <a:srgbClr val="000000"/>
                </a:solidFill>
                <a:latin typeface="Arial"/>
              </a:rPr>
              <a:t>for English-medium teaching &amp; learning in years 1 -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Curriculum Logo 1"/>
          <p:cNvPicPr/>
          <p:nvPr/>
        </p:nvPicPr>
        <p:blipFill>
          <a:blip r:embed="rId1"/>
          <a:stretch/>
        </p:blipFill>
        <p:spPr>
          <a:xfrm>
            <a:off x="0" y="0"/>
            <a:ext cx="2050920" cy="14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8920" y="-360"/>
            <a:ext cx="871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Monotype Corsiva"/>
              </a:rPr>
              <a:t>Maori Medium School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95280" y="836280"/>
            <a:ext cx="83534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eaching and learning is essentially in the medium of Maor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hese schools includ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Kura Kaupapa Mäori  - based on principles of    Aho Mat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pecial character schools- Tribal sch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Maori language immersion units in English medium sch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79640" y="5589720"/>
            <a:ext cx="6985080" cy="126828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Lucida Sans Unicode"/>
              </a:rPr>
              <a:t>TE KAUPAPA MARAUTANGA O AOTEAR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5637240"/>
            <a:ext cx="1944720" cy="12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8920" y="-360"/>
            <a:ext cx="871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400" spc="-1" strike="noStrike">
                <a:solidFill>
                  <a:srgbClr val="000000"/>
                </a:solidFill>
                <a:latin typeface="Monotype Corsiva"/>
              </a:rPr>
              <a:t>Them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79640" y="5589720"/>
            <a:ext cx="6985080" cy="126828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Lucida Sans Unicode"/>
              </a:rPr>
              <a:t>TE KAUPAPA MARAUTANGA O AOTEAR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5637240"/>
            <a:ext cx="1944720" cy="12207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50920" y="5157720"/>
            <a:ext cx="2448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9640" y="1125360"/>
            <a:ext cx="8280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Sans Unicode"/>
              </a:rPr>
              <a:t>Marau must reflect Maori philosophies, pedagogy, tikanga, world-views and ‘ways of knowing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Sans Unicode"/>
              </a:rPr>
              <a:t>Comprehensive, inclusive, holistic, integrative curriculum framework that reflects Mäori status as tangata whenu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Lucida Sans Unicode"/>
              </a:rPr>
              <a:t>That Marautanga are relevant to iwi, hapu and  communities i.e. tikanga, his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8920" y="-360"/>
            <a:ext cx="871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400" spc="-1" strike="noStrike">
                <a:solidFill>
                  <a:srgbClr val="000000"/>
                </a:solidFill>
                <a:latin typeface="Monotype Corsiva"/>
              </a:rPr>
              <a:t>Them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79640" y="5589720"/>
            <a:ext cx="6985080" cy="126828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Lucida Sans Unicode"/>
              </a:rPr>
              <a:t>TE KAUPAPA MARAUTANGA O AOTEAR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5637240"/>
            <a:ext cx="1944720" cy="12207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50920" y="5157720"/>
            <a:ext cx="2448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9640" y="1557360"/>
            <a:ext cx="8280360" cy="40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Lucida Sans Unicode"/>
              </a:rPr>
              <a:t>Recognise the role of parents, the kura, the whänau in the education of tamari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NZ" sz="3200" spc="-1" strike="noStrike">
                <a:solidFill>
                  <a:srgbClr val="000000"/>
                </a:solidFill>
                <a:latin typeface="Lucida Sans Unicode"/>
              </a:rPr>
              <a:t>Enable students to be Maori and to be citizens of 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NZ" sz="3200" spc="-1" strike="noStrike">
                <a:solidFill>
                  <a:srgbClr val="000000"/>
                </a:solidFill>
                <a:latin typeface="Lucida Sans Unicode"/>
              </a:rPr>
              <a:t>Promote Maori values and be flexible enough to allow kura to reflect the values of their local comm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71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400" spc="-1" strike="noStrike">
                <a:solidFill>
                  <a:srgbClr val="000000"/>
                </a:solidFill>
                <a:latin typeface="Monotype Corsiva"/>
              </a:rPr>
              <a:t>Them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79640" y="5589720"/>
            <a:ext cx="6985080" cy="126828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Lucida Sans Unicode"/>
              </a:rPr>
              <a:t>TE KAUPAPA MARAUTANGA O AOTEAR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5637240"/>
            <a:ext cx="1944720" cy="12207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50920" y="5157720"/>
            <a:ext cx="2448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9640" y="765000"/>
            <a:ext cx="8280360" cy="55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Lucida Sans Unicode"/>
              </a:rPr>
              <a:t>The need to support the development of  Maori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Lucida Sans Unicode"/>
              </a:rPr>
              <a:t>Notions of wänanga- concern with thinking &amp; challen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Lucida Sans Unicode"/>
              </a:rPr>
              <a:t>Unlocking creative potent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Lucida Sans Unicode"/>
              </a:rPr>
              <a:t>Establishment of effective relation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Lucida Sans Unicode"/>
              </a:rPr>
              <a:t>Learning that engages students in a way that develops positive attitu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Lucida Sans Unicode"/>
              </a:rPr>
              <a:t>To encourage critical and creative thin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4T20:51:57Z</dcterms:created>
  <dc:creator>Beth Dungey</dc:creator>
  <dc:description/>
  <dc:language>en-US</dc:language>
  <cp:lastModifiedBy>Beth Dungey</cp:lastModifiedBy>
  <dcterms:modified xsi:type="dcterms:W3CDTF">2008-02-26T00:18:28Z</dcterms:modified>
  <cp:revision>8</cp:revision>
  <dc:subject/>
  <dc:title>Sector Leaders Day</dc:title>
</cp:coreProperties>
</file>